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jpeg" ContentType="image/jpe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2.jpeg" ContentType="image/jpeg"/>
  <Override PartName="/ppt/media/image15.wmf" ContentType="image/x-wmf"/>
  <Override PartName="/ppt/media/image14.wmf" ContentType="image/x-wmf"/>
  <Override PartName="/ppt/media/image25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F910-42B2-4ACD-8BEE-C605329D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AA5C-4912-4837-820F-C2CE1F7E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3BC4-DF32-4D4D-8078-F2F88D350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2A6F-D9DD-4AA9-A0ED-6ED84194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402E-23D6-4ABA-9877-EFAC292A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D1FB-29E6-4123-B82C-C6F5A9E3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B432-7283-4FCC-9FD3-A2BD46D1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CF80-9C40-484A-BF1E-0795ED9F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DDB6-05F1-4725-A138-81A7A2FC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C28A-BD89-43DE-A828-6EDDA686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C139-1922-462F-A70A-322D58E9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8585-AD62-4939-B465-B0D54B59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2A47-2D27-417A-ACAE-1ED0592EB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hyperlink" Target="http://www.brent-krueger.com/images/2004%20Uncirc%20Nickel%20obverse-gs.jpg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theharpsyturtle.files.wordpress.com/2007/08/609px-2006_quarter_proof.png?w=400&amp;h=400" TargetMode="External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Comic Sans MS"/>
              </a:rPr>
              <a:t>Days </a:t>
            </a:r>
            <a:br>
              <a:rPr sz="6000"/>
            </a:br>
            <a:r>
              <a:rPr b="0" lang="en-US" sz="6000" spc="-1" strike="noStrike">
                <a:solidFill>
                  <a:srgbClr val="ff0066"/>
                </a:solidFill>
                <a:latin typeface="Comic Sans MS"/>
              </a:rPr>
              <a:t>of the </a:t>
            </a:r>
            <a:br>
              <a:rPr sz="6000"/>
            </a:br>
            <a:r>
              <a:rPr b="0" lang="en-US" sz="6000" spc="-1" strike="noStrike">
                <a:solidFill>
                  <a:srgbClr val="ff0066"/>
                </a:solidFill>
                <a:latin typeface="Comic Sans MS"/>
              </a:rPr>
              <a:t>Wee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19870200">
            <a:off x="380880" y="5334120"/>
            <a:ext cx="2743200" cy="973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2655000">
            <a:off x="5714640" y="914040"/>
            <a:ext cx="2759040" cy="985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19714800">
            <a:off x="6400800" y="3123720"/>
            <a:ext cx="2743200" cy="978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19406400">
            <a:off x="762120" y="761760"/>
            <a:ext cx="2819160" cy="1006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 rot="1743000">
            <a:off x="0" y="2971800"/>
            <a:ext cx="2987640" cy="1066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 rot="1387200">
            <a:off x="6019560" y="5257800"/>
            <a:ext cx="2606400" cy="932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3276720" y="4343400"/>
            <a:ext cx="2457360" cy="876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4956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3498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Comic Sans MS"/>
              </a:rPr>
              <a:t>Months of the Year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1866960" cy="993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1866960" cy="99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09480" y="3809880"/>
            <a:ext cx="1863720" cy="993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09480" y="5029200"/>
            <a:ext cx="1866960" cy="990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3352680" y="1447920"/>
            <a:ext cx="1866960" cy="993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3352680" y="2590920"/>
            <a:ext cx="1863720" cy="990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3352680" y="3809880"/>
            <a:ext cx="1863720" cy="990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3352680" y="5029200"/>
            <a:ext cx="1863720" cy="993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6324480" y="1447920"/>
            <a:ext cx="1863720" cy="993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324480" y="2590920"/>
            <a:ext cx="1866960" cy="99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6324480" y="3886200"/>
            <a:ext cx="1863720" cy="993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2"/>
          <a:stretch/>
        </p:blipFill>
        <p:spPr>
          <a:xfrm>
            <a:off x="6324480" y="5181480"/>
            <a:ext cx="1866960" cy="993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3"/>
          <a:stretch/>
        </p:blipFill>
        <p:spPr>
          <a:xfrm>
            <a:off x="43434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2368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cc33"/>
                </a:solidFill>
                <a:latin typeface="Comic Sans MS"/>
              </a:rPr>
              <a:t>Mone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2152440" cy="2186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2004 Jefferson Nickel Obvers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5000" y="1311120"/>
            <a:ext cx="2362320" cy="2314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143000" y="3809880"/>
            <a:ext cx="2514600" cy="2479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5791320" y="3962520"/>
            <a:ext cx="2288880" cy="2307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19320" y="3276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6324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15000" y="3581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6324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076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cc33"/>
                </a:solidFill>
                <a:latin typeface="Comic Sans MS"/>
              </a:rPr>
              <a:t>Counting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4800600" cy="4400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3434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6083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8:45:38Z</dcterms:created>
  <dc:creator>lgriffin</dc:creator>
  <dc:description/>
  <dc:language>en-US</dc:language>
  <cp:lastModifiedBy>lbrannan</cp:lastModifiedBy>
  <dcterms:modified xsi:type="dcterms:W3CDTF">2010-03-05T18:04:02Z</dcterms:modified>
  <cp:revision>9</cp:revision>
  <dc:subject/>
  <dc:title>Days  of the  Week</dc:title>
</cp:coreProperties>
</file>